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1E2-70F1-4B49-A133-D99B5677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DC1-B42A-4574-9DC1-083479C7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F1732-797F-4E5C-9853-1F38C97C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9C062-B212-4130-B444-6E46DF0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6DD7B-817E-4FA3-A8F6-241903C5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C5FA4-E02D-4B91-A0FD-6724122E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69C43-D864-4FBA-BE3C-8D86DE97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248F7-7D57-4367-B2ED-B77263C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ECE6-E84B-4321-A3B4-067FC9A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CF253-DFCE-4C62-B174-008549F8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E06CC-5EEF-49BE-9F41-4B3543B8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851DF-13FA-443F-ABA0-F4014BF7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A9A-96CD-48F3-AEB0-6D2AE334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30E96F-751A-4A50-865B-55F9D239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9EF14-793E-487A-BE94-1A0DC17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2F652-D416-4F48-83E1-C34355D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1A7EE9-3D56-4B58-A90B-43988350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B6F472-1C8A-4A0C-8609-1BAF8112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4C130-4FE7-497C-A187-F728E03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86CD9C-C9A0-406B-AE8E-1DEB9EB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50B157-3B22-4FD1-8D7C-A105B0D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3C8A3F-6213-4927-BF23-55E56AE3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4B999E-3BB2-404C-BAA9-4D6AC771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83E-716E-405C-B7BF-823F6275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5C302-56DF-4996-9A41-46AEC8F1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3FEBB-2977-47CC-AB14-F3D339DC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4B942-7E61-4788-B857-AB5CA5FA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D2182-C782-47AB-BE5B-C44DA47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50B61-03A4-42C2-A5DF-E63E123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D502-1078-4F8A-B941-68E287F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B37C0-DD6A-462D-8C3D-9AD7D76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1322-BDEF-4C28-80A1-A712206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D52D1-9FD4-42BA-9D5D-12333B3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4958F-EF95-4CEC-9CD3-E5943541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92B6-A88D-4924-B62E-44ACF6CD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ED02-5817-4F91-BA2B-3113CD0B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6612A-0CE1-4186-A8E3-BA3857C2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CE08-4C4C-42DB-A045-57F5D3CC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C31CD-5A23-45A3-A825-594DF4F6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F011E-88AE-46EA-8F26-98C3A3E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2F4C8-7212-474D-BAB3-2C75D6E1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E0EE2-0003-4C7F-8EF4-7429A62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8A89-1ACB-462F-8A03-D63BE84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11FB4-4D44-48DC-B3F8-E72EF2A2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5C33E-0640-45E3-BB47-6C46C223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835B-B3C0-438D-9977-89F5A662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90051-EEDE-4015-9BEA-BD66309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5DC22-AF1D-46B9-AF52-FFEFF3C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6124B-C52C-4E28-BFF2-73A4F37E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5A2A8-D553-4DE1-9D17-46043DA3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E20CB-62F6-4EC6-975C-B67FDBAE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71AB0-83E5-40D7-BABF-23CE2ECF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E547F-9E7A-4B23-9F69-C01C9A39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77F94-B9DF-4CD5-B557-5DCAF298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38EE7-8FA1-4A37-B0FE-22F7B23B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392C6-4C51-44C9-81E5-7DA2A54C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BDB8-2FE3-4000-9C20-F949C856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11589-D2DF-4BDB-85A7-0E60464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9E97D-34B4-47BE-9E31-1BF4920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4499F-EAE6-4DD5-B9AA-71A9D6E2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8C27C-06D9-4220-AAF6-6F2D034C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7DCE6-71A7-4A78-8CE6-FF952658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5C876-67C8-4267-81E2-23C308EA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C5039-A646-47BF-B00D-B310B0D7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523-A964-49D1-B1CF-10237424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BC97-2CA5-47F3-94A8-8B983426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E8F2-CE17-4E4E-8DC4-709A094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ED4-1F84-4692-BF0D-E24D12CF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D35-7F36-45B5-851B-C85EE646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580-96CB-4009-8E5A-3C1ABA2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4A26-35E5-401C-B70C-CCE06D5A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D10-AA14-43A4-AA60-59849C6B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0868-AAE0-4CB5-92DE-DF2A5262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8EB-3570-4605-96B5-762BB6C0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B535-8214-41C3-8F50-A82143DF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B676-AF8B-42DC-A0C3-8211ADC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2BBBF-240E-4D93-BA2B-07E9057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F657-FF4E-4133-80E0-814792DD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46C4-36AC-426B-A822-6E0DB5DB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94B-F8A2-436E-96D7-BF967EB7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DCBB-BD53-46DA-82F8-3DADE554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892E-B3A2-48DE-92F7-DFD3286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ABD7-D39B-4C22-8200-42D6512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0638-15EF-4480-98E8-B82DA0D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A4C5-4B72-41B8-9451-2CA863C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7AAF-793C-4627-8B40-5441929B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26D0-8554-4BC1-A679-9BE1A668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8CBB-B72F-4DC3-87CE-3EAB2B8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2FEF-EA9C-491D-9326-F6C8DA64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2E530-34D4-4B12-A12F-C0FEC539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DDD-0E76-4A29-82EE-AB1610C8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FC93-F37B-4E0A-868F-BA854FCC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63C6-F457-4EF7-BB02-EF21240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D458-EF04-443A-A8E5-A89BADC3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C44D-DA7C-4655-BD3E-49D5FBF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5406-6319-4F35-900E-276E504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2032-B3CD-4880-A8DF-02412EDF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65D1-2024-4B4C-8E6C-DEB62AB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E075-7D5F-4600-96A6-5CCA875E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BE41-4FCD-484C-B13C-45B81DC5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E994-BE8C-4DE4-9AAF-42BEE9B1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EC2-2838-4E1A-A82F-652116F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9282-936E-4434-B967-B3189558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4F142-BBCC-43AD-A389-2E46D5B6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7070-BEB5-4D09-AE83-8832C53E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BDC1-38CC-4F3D-BCC6-4436CD7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6EF7-ADC8-4E83-9186-6A55571F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62D8-F071-4C32-A5FC-09D3F23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614D-8A72-4548-A3EC-B5273B4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BB3B-4216-45B8-BD37-B73F56C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D797-746C-4CA2-B6B3-1682E81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70E5D-57F4-436D-8985-3D5CD232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AEF-A356-496E-ADE7-E3844FA5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FFB1-74DC-4C3D-A3FE-C09E9CC4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2834D-3F37-431C-86CA-63ECB316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2BBE7-E3BE-401E-BE0C-5D2565D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2CC6-D333-474A-954E-4BB5CDE2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CE9CA-3A10-4098-A0D1-B1658DC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9FAE-00EA-430B-91D0-A2B06E77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9124-9AD4-4EFE-B676-F9F2AC5B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B7A32-13FC-464A-853E-F3A9A28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4F27-2DF0-4F27-9811-4AC0B52B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7FF69-9D0D-467F-960E-8D9B88C1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62E-510B-4569-880B-6E82EE5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5DF1-A954-4A69-929E-4C6E344F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954C8-3FE2-4DEA-BB7E-05A5E77F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645A8-943F-4C4C-ADE8-9735132F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9F3FC-A18D-4B75-A434-82078883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EDCF3-2C08-4520-8B7E-6F6B4D9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8D11C-1206-4285-8631-65D565D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F5FD2-11B3-4C75-A91E-7256C93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546D4-99E4-4A44-929F-3D5D40E8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97414-7359-4FBB-9378-6526A75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CBC12-6F06-418D-A955-B1F5F48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DB2-5EF0-4E3A-8F5A-8856BE90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30443-F344-4E06-B085-2919BF2E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CE566-DAA4-4E89-9889-AE519DDD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4F461-DDD2-4205-BCAB-E513BA71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7DBA7-1408-4F8D-A933-1721FEFF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0A924-D8B9-4A67-9CA8-735A89F0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C353D-43E9-4851-8821-D5EA99CB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150D1-0CD7-4849-A004-5010627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6AEF6-45DA-4BCC-9E8A-55C20596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CA783-16C8-4706-B4E3-A14373E7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EC82C-6971-4791-AB4E-C8D2AC65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BAC-4D79-4E68-BE1E-C642E57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E08A1-A20A-4FCB-B82F-56A50337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57713-F728-4303-AD65-7EDBE78F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D3E6-7983-47AA-9DA1-7AFF26D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FF81-0384-42E7-97BB-8EEED3D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04D4-C2F7-4010-A918-251A7D1E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EF70-8D67-46DA-B49F-E701C5FB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18B26-5DBD-4972-B00C-E44DB54B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E3D8A-0789-441B-9E45-37F3AF4E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ABA23-A990-4FCC-A553-D68D33B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2CD01-F504-44B6-BB80-EED10EF9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E34-F091-4C07-B8E8-424C096A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909A-0328-489B-B475-C7AA9F3A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90D1-30F6-4220-95F7-3EED86D198E8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3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3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3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B72C-A9BD-45EF-A0F9-BC60696A5707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3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3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3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4896-A02E-4F79-8AD9-0E8AA540478D}" type="slidenum">
              <a:rPr b="0" lang="en-US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28B8-857C-403B-9606-0DAD4E25E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AA2C-635B-4490-93B2-CFB5ECB5DF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3B53-C26D-4FEF-BDE1-830C8DC352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C42-D4C0-4411-9062-A5AF1220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6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17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18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A8E-8093-4F0E-A75A-C014608D1371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2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3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3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8D99-888C-4DD7-A7D7-6311E97F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F0F-C34C-4F59-9742-373472834A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A1B-7488-44DC-A566-F9FC08BD13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Script MT Bold"/>
              </a:rPr>
              <a:t>Mi Vacacion en Antigua, Guatema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: Liam Gallina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7" name="Picture 5" descr="346658_13"/>
          <p:cNvPicPr/>
          <p:nvPr/>
        </p:nvPicPr>
        <p:blipFill>
          <a:blip r:embed="rId1"/>
          <a:stretch/>
        </p:blipFill>
        <p:spPr>
          <a:xfrm rot="1642800">
            <a:off x="380520" y="3733560"/>
            <a:ext cx="3305160" cy="247644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6" descr="untitled 3"/>
          <p:cNvPicPr/>
          <p:nvPr/>
        </p:nvPicPr>
        <p:blipFill>
          <a:blip r:embed="rId2"/>
          <a:stretch/>
        </p:blipFill>
        <p:spPr>
          <a:xfrm>
            <a:off x="4724280" y="4495680"/>
            <a:ext cx="2743200" cy="20545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7" descr="untitled 4"/>
          <p:cNvPicPr/>
          <p:nvPr/>
        </p:nvPicPr>
        <p:blipFill>
          <a:blip r:embed="rId3"/>
          <a:stretch/>
        </p:blipFill>
        <p:spPr>
          <a:xfrm rot="18954600">
            <a:off x="5880240" y="1684080"/>
            <a:ext cx="2766960" cy="21430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8" descr="imagesCA303NCZ"/>
          <p:cNvPicPr/>
          <p:nvPr/>
        </p:nvPicPr>
        <p:blipFill>
          <a:blip r:embed="rId4"/>
          <a:stretch/>
        </p:blipFill>
        <p:spPr>
          <a:xfrm rot="2635800">
            <a:off x="477720" y="1422360"/>
            <a:ext cx="237816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Rockwell Condensed"/>
              </a:rPr>
              <a:t>Día numero un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4014360"/>
            <a:ext cx="8229600" cy="20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rida Mam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 f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í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tel Casa del Parque en Antigua. Comprobado en temprano y p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 el día en el hote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mbalaje. El tiempo es muy calor y es tiempo bien. Yo n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 en la pisin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bié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3" name="Picture 4" descr="346658_16"/>
          <p:cNvPicPr/>
          <p:nvPr/>
        </p:nvPicPr>
        <p:blipFill>
          <a:blip r:embed="rId1"/>
          <a:stretch/>
        </p:blipFill>
        <p:spPr>
          <a:xfrm rot="19209600">
            <a:off x="301680" y="1252080"/>
            <a:ext cx="2430360" cy="182268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5" descr="346658_13"/>
          <p:cNvPicPr/>
          <p:nvPr/>
        </p:nvPicPr>
        <p:blipFill>
          <a:blip r:embed="rId2"/>
          <a:stretch/>
        </p:blipFill>
        <p:spPr>
          <a:xfrm>
            <a:off x="3200400" y="1981080"/>
            <a:ext cx="2795760" cy="20941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6" descr="346658_1"/>
          <p:cNvPicPr/>
          <p:nvPr/>
        </p:nvPicPr>
        <p:blipFill>
          <a:blip r:embed="rId3"/>
          <a:stretch/>
        </p:blipFill>
        <p:spPr>
          <a:xfrm rot="2077800">
            <a:off x="6592680" y="1139760"/>
            <a:ext cx="211284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Rockwell Condensed"/>
              </a:rPr>
              <a:t>Día numero do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ida Mam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 f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í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ugares muy famoso en Antigua. Yo f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t Barrington, Shirley Heights, y Fort Jam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muy interes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Picture 6" descr="images"/>
          <p:cNvPicPr/>
          <p:nvPr/>
        </p:nvPicPr>
        <p:blipFill>
          <a:blip r:embed="rId1"/>
          <a:stretch/>
        </p:blipFill>
        <p:spPr>
          <a:xfrm rot="20888400">
            <a:off x="228240" y="1447560"/>
            <a:ext cx="2895480" cy="14382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7" descr="untitled 2"/>
          <p:cNvPicPr/>
          <p:nvPr/>
        </p:nvPicPr>
        <p:blipFill>
          <a:blip r:embed="rId2"/>
          <a:stretch/>
        </p:blipFill>
        <p:spPr>
          <a:xfrm rot="2390400">
            <a:off x="6395760" y="1098720"/>
            <a:ext cx="2423880" cy="170172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8" descr="untitled 3"/>
          <p:cNvPicPr/>
          <p:nvPr/>
        </p:nvPicPr>
        <p:blipFill>
          <a:blip r:embed="rId3"/>
          <a:stretch/>
        </p:blipFill>
        <p:spPr>
          <a:xfrm>
            <a:off x="342900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ockwell Condensed"/>
              </a:rPr>
              <a:t>Día numero tr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3274560"/>
            <a:ext cx="822960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a Ma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, f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 a la playa. Fuí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mitage Bay, St. John's. No nesecitas preocuparse, yo ll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 crème prote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Picture 4" descr="imagesCA8MFHVH"/>
          <p:cNvPicPr/>
          <p:nvPr/>
        </p:nvPicPr>
        <p:blipFill>
          <a:blip r:embed="rId1"/>
          <a:stretch/>
        </p:blipFill>
        <p:spPr>
          <a:xfrm rot="20221800">
            <a:off x="5409720" y="685440"/>
            <a:ext cx="3391200" cy="18986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5" descr="untitled 4"/>
          <p:cNvPicPr/>
          <p:nvPr/>
        </p:nvPicPr>
        <p:blipFill>
          <a:blip r:embed="rId2"/>
          <a:stretch/>
        </p:blipFill>
        <p:spPr>
          <a:xfrm>
            <a:off x="990720" y="1447920"/>
            <a:ext cx="28191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ía numero cuatr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1680" y="3428640"/>
            <a:ext cx="854064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rida Ma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tiempo hoy es muy bien así yo f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í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ursionismo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ando yo hizo el pico, el ver es asombros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7" name="Picture 4" descr="imagesCA303NCZ"/>
          <p:cNvPicPr/>
          <p:nvPr/>
        </p:nvPicPr>
        <p:blipFill>
          <a:blip r:embed="rId1"/>
          <a:stretch/>
        </p:blipFill>
        <p:spPr>
          <a:xfrm rot="1168200">
            <a:off x="380520" y="457200"/>
            <a:ext cx="2800440" cy="18144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5" descr="imagesCAPQY38C"/>
          <p:cNvPicPr/>
          <p:nvPr/>
        </p:nvPicPr>
        <p:blipFill>
          <a:blip r:embed="rId2"/>
          <a:stretch/>
        </p:blipFill>
        <p:spPr>
          <a:xfrm>
            <a:off x="4800600" y="1371600"/>
            <a:ext cx="3276720" cy="171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DÍA ULTÍMA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09480" y="373356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Querida Mama,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Hoy es mi 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  <a:ea typeface="Tahoma"/>
              </a:rPr>
              <a:t>día ultíma en Guatemala. Yo tiene diversión pero yo nesescita volver a casa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1" name="Picture 4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17:52Z</dcterms:created>
  <dc:creator>gallinaghlia</dc:creator>
  <dc:description/>
  <dc:language>en-US</dc:language>
  <cp:lastModifiedBy>Owner</cp:lastModifiedBy>
  <dcterms:modified xsi:type="dcterms:W3CDTF">2011-12-01T20:29:41Z</dcterms:modified>
  <cp:revision>10</cp:revision>
  <dc:subject/>
  <dc:title>Mi Vacaciones en Guatemala</dc:title>
</cp:coreProperties>
</file>